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78656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67860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156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7"/>
          </p:nvPr>
        </p:nvSpPr>
        <p:spPr>
          <a:xfrm>
            <a:off x="3843000" y="0"/>
            <a:ext cx="294156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915480" y="742680"/>
            <a:ext cx="495324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905040" y="4704840"/>
            <a:ext cx="497520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8"/>
          </p:nvPr>
        </p:nvSpPr>
        <p:spPr>
          <a:xfrm>
            <a:off x="-360" y="9410760"/>
            <a:ext cx="294156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9"/>
          </p:nvPr>
        </p:nvSpPr>
        <p:spPr>
          <a:xfrm>
            <a:off x="3843000" y="9410760"/>
            <a:ext cx="294156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C7AC9E6C-0D53-4363-8251-58F70E760B1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43360" y="9410760"/>
            <a:ext cx="2941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F70D53A7-C400-4F6D-BC19-DA124AD01983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02880" y="4707000"/>
            <a:ext cx="4978440" cy="446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43360" y="9410760"/>
            <a:ext cx="2941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DBA7192B-2F27-4995-8FA3-4A8AA94EBD96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02880" y="4707000"/>
            <a:ext cx="4978440" cy="446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43360" y="9410760"/>
            <a:ext cx="2941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E6A1BD1B-167E-4A33-98F9-256170CD10AD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02880" y="4707000"/>
            <a:ext cx="4978440" cy="446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43360" y="9410760"/>
            <a:ext cx="2941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0265507F-D3A3-4917-AE0F-2E38B364DBFF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02880" y="4707000"/>
            <a:ext cx="4978440" cy="446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43360" y="9410760"/>
            <a:ext cx="2941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CD8BFFCF-F4E1-4D36-B973-AB069787D6C6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02880" y="4707000"/>
            <a:ext cx="4978440" cy="446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43360" y="9410760"/>
            <a:ext cx="2941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5A82BEF9-94FC-4070-96D5-B4A58977D1D1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02880" y="4707000"/>
            <a:ext cx="4978440" cy="446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43360" y="9410760"/>
            <a:ext cx="2941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A7FFD5DC-3A4F-4C80-9BE2-E5C7703E121C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02880" y="4707000"/>
            <a:ext cx="4978440" cy="446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43360" y="9410760"/>
            <a:ext cx="2941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4DF03F28-AAC6-4187-A301-CE3C78D87AAD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02880" y="4707000"/>
            <a:ext cx="4978440" cy="446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43360" y="9410760"/>
            <a:ext cx="2941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F0616E2B-11E8-4CEA-ABDD-DA95E5C43FAD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02880" y="4707000"/>
            <a:ext cx="4978440" cy="446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6BAC-C411-456A-9958-6E853B244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072F-8272-447D-9653-20E2F5123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9C90-2D2E-476E-9EFB-E18FAB833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0DAC-BEA8-44D0-9C22-F3E9D2F8D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1ACA5-45E6-4D04-8693-E82946282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D068E-8BA8-43D5-A705-1543E5029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1479D-F369-4084-8A08-C664FFF90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01781-CFFA-4945-84B0-29FBD56F9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F0F0F-1C22-4D85-B490-DEF1732A2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7BB35-B0FA-44F5-985F-3750924A7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3831B-D886-4FA3-91DF-31C5BA0B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1031-7F06-4448-8A72-EF236C40C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0ED03-DB20-4941-B1E6-CD1B0FE7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F5296-F10C-41B5-A57A-0F36E3F6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907E0-D608-40D6-9EB2-771AE808B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EE774-F314-42C7-8CBE-4D17FA65C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35830-FCBA-49C5-87C5-BDD3B6D7B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6F5A-4B0B-4D0F-A043-E41C02ED5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2809-5FFC-41CC-A71E-95A1F1AA2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842A-DA11-4F7C-A7C9-2933C4EED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E571-09E7-4452-B66D-B2B21E48C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074D-88BB-494C-8BAA-C87BAD98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A3A3-0F10-4581-A941-B279DCBC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3BB6-9F9E-499D-B15A-0C7C2DC0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E851B-861A-4163-AA12-6BB1FBCE7A81}" type="slidenum">
              <a:rPr b="0" lang="it-IT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42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46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5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6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7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8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59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70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71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2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3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4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76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7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4CC55-9AFF-45C2-84B5-497A37AEF6A9}" type="slidenum">
              <a:rPr b="0" lang="it-IT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539280" y="2781000"/>
            <a:ext cx="820908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Verdana"/>
              </a:rPr>
              <a:t>Indirizzi del Governo italiano sulle politiche di mobilità sostenibile nelle aree urba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12"/>
          <p:cNvSpPr/>
          <p:nvPr/>
        </p:nvSpPr>
        <p:spPr>
          <a:xfrm>
            <a:off x="2124000" y="3789360"/>
            <a:ext cx="46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Verdana"/>
              </a:rPr>
              <a:t>Sala Conferenze della Provincia di Viterbo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Verdana"/>
              </a:rPr>
              <a:t>Viterbo 24 marzo 2011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Rectangle 25"/>
          <p:cNvSpPr/>
          <p:nvPr/>
        </p:nvSpPr>
        <p:spPr>
          <a:xfrm>
            <a:off x="1042920" y="5300640"/>
            <a:ext cx="69836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Dott. Riccardo Simon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Verdana"/>
              </a:rPr>
              <a:t>Direzione Generale per lo Sviluppo sostenibile, il Clima e l’Energia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9" name="Group 10"/>
          <p:cNvGrpSpPr/>
          <p:nvPr/>
        </p:nvGrpSpPr>
        <p:grpSpPr>
          <a:xfrm>
            <a:off x="250920" y="620640"/>
            <a:ext cx="8496000" cy="2175840"/>
            <a:chOff x="250920" y="620640"/>
            <a:chExt cx="8496000" cy="2175840"/>
          </a:xfrm>
        </p:grpSpPr>
        <p:sp>
          <p:nvSpPr>
            <p:cNvPr id="130" name="Text Box 11"/>
            <p:cNvSpPr/>
            <p:nvPr/>
          </p:nvSpPr>
          <p:spPr>
            <a:xfrm>
              <a:off x="250920" y="1849320"/>
              <a:ext cx="8496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cc66"/>
                  </a:solidFill>
                  <a:latin typeface="Verdana"/>
                </a:rPr>
                <a:t> </a:t>
              </a:r>
              <a:r>
                <a:rPr b="1" lang="en-GB" sz="4000" spc="-1" strike="noStrike">
                  <a:solidFill>
                    <a:srgbClr val="ffffff"/>
                  </a:solidFill>
                  <a:latin typeface="Palace Script MT"/>
                </a:rPr>
                <a:t>Ministero dell’Ambiente e della Tutela del Territorio  e del Mare</a:t>
              </a:r>
              <a:endParaRPr b="0" lang="en-US" sz="4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pic>
          <p:nvPicPr>
            <p:cNvPr id="131" name="Picture 12" descr="Immagine3"/>
            <p:cNvPicPr/>
            <p:nvPr/>
          </p:nvPicPr>
          <p:blipFill>
            <a:blip r:embed="rId1"/>
            <a:stretch/>
          </p:blipFill>
          <p:spPr>
            <a:xfrm>
              <a:off x="3798000" y="620640"/>
              <a:ext cx="1283040" cy="1228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"/>
          <p:cNvPicPr/>
          <p:nvPr/>
        </p:nvPicPr>
        <p:blipFill>
          <a:blip r:embed="rId2"/>
          <a:stretch/>
        </p:blipFill>
        <p:spPr>
          <a:xfrm>
            <a:off x="200160" y="44280"/>
            <a:ext cx="771480" cy="7146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"/>
          <p:cNvPicPr/>
          <p:nvPr/>
        </p:nvPicPr>
        <p:blipFill>
          <a:blip r:embed="rId3"/>
          <a:stretch/>
        </p:blipFill>
        <p:spPr>
          <a:xfrm>
            <a:off x="1096920" y="0"/>
            <a:ext cx="8047080" cy="72072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7"/>
          <p:cNvSpPr/>
          <p:nvPr/>
        </p:nvSpPr>
        <p:spPr>
          <a:xfrm>
            <a:off x="684360" y="206064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0" y="1052640"/>
            <a:ext cx="9144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Verdana"/>
              </a:rPr>
              <a:t>Una strategia win win per la mobilità sostenibi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684360" y="2133720"/>
            <a:ext cx="80643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Rectangle 10"/>
          <p:cNvSpPr/>
          <p:nvPr/>
        </p:nvSpPr>
        <p:spPr>
          <a:xfrm>
            <a:off x="684360" y="2060640"/>
            <a:ext cx="80643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7360" y="-31680"/>
            <a:ext cx="573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vita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Rettangolo 19"/>
          <p:cNvSpPr/>
          <p:nvPr/>
        </p:nvSpPr>
        <p:spPr>
          <a:xfrm>
            <a:off x="900000" y="3860640"/>
            <a:ext cx="748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Rettangolo 12"/>
          <p:cNvSpPr/>
          <p:nvPr/>
        </p:nvSpPr>
        <p:spPr>
          <a:xfrm>
            <a:off x="250920" y="1844640"/>
            <a:ext cx="8642160" cy="39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ff00"/>
                </a:solidFill>
                <a:latin typeface="Verdana"/>
                <a:ea typeface="Times New Roman"/>
              </a:rPr>
              <a:t>Regolamentazione dell’accesso ai centri urbani delle auto e dei veicoli di trasporto delle merci:  </a:t>
            </a:r>
            <a:r>
              <a:rPr b="1" lang="it-IT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Nuova fase oltre le ZTL  regolamentata a livello nazionale, introduzione di sistemi di IT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ff00"/>
                </a:solidFill>
                <a:latin typeface="Verdana"/>
              </a:rPr>
              <a:t>Sostegno alle politiche urbane a favore della mobilità ciclistica e del potenziamento di servizi integrativi al  trasporto pubblico locale: </a:t>
            </a:r>
            <a:r>
              <a:rPr b="1" lang="it-IT" sz="1400" spc="-1" strike="noStrike">
                <a:solidFill>
                  <a:srgbClr val="ffffff"/>
                </a:solidFill>
                <a:latin typeface="Verdana"/>
              </a:rPr>
              <a:t>Servizi di trasporto flessibili, mobility management, intermodalità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5720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i="1" lang="it-IT" sz="1600" spc="-1" strike="noStrike">
                <a:solidFill>
                  <a:srgbClr val="ffff00"/>
                </a:solidFill>
                <a:latin typeface="Verdana"/>
              </a:rPr>
              <a:t>P</a:t>
            </a:r>
            <a:r>
              <a:rPr b="1" i="1" lang="it-IT" sz="1400" spc="-1" strike="noStrike">
                <a:solidFill>
                  <a:srgbClr val="ffff00"/>
                </a:solidFill>
                <a:latin typeface="Verdana"/>
              </a:rPr>
              <a:t>roduzione e diffusione di auto ad alta efficienza e  basse emissioni (elettriche, </a:t>
            </a:r>
            <a:r>
              <a:rPr b="1" i="1" lang="it-IT" sz="14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i="1" lang="it-IT" sz="1400" spc="-1" strike="noStrike">
                <a:solidFill>
                  <a:srgbClr val="ffff00"/>
                </a:solidFill>
                <a:latin typeface="Verdana"/>
              </a:rPr>
              <a:t>ibride plug- in, a gas naturale) in sostituzione delle auto circolanti </a:t>
            </a:r>
            <a:r>
              <a:rPr b="1" i="1" lang="it-IT" sz="14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i="1" lang="it-IT" sz="1400" spc="-1" strike="noStrike">
                <a:solidFill>
                  <a:srgbClr val="ffff00"/>
                </a:solidFill>
                <a:latin typeface="Verdana"/>
              </a:rPr>
              <a:t>immatricolate </a:t>
            </a:r>
            <a:r>
              <a:rPr b="1" i="1" lang="it-IT" sz="14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i="1" lang="it-IT" sz="1400" spc="-1" strike="noStrike">
                <a:solidFill>
                  <a:srgbClr val="ffff00"/>
                </a:solidFill>
                <a:latin typeface="Verdana"/>
              </a:rPr>
              <a:t>prima del 2001: </a:t>
            </a:r>
            <a:r>
              <a:rPr b="1" i="1" lang="it-IT" sz="1400" spc="-1" strike="noStrike">
                <a:solidFill>
                  <a:srgbClr val="ffffff"/>
                </a:solidFill>
                <a:latin typeface="Verdana"/>
              </a:rPr>
              <a:t>Le auto elettriche: generazione di elettricità da fonti rinnovabili, gestione batterie per minimizzare gli effetti sui rifiuti, ricarica rapida, in sostituzione del parco circolante , il ruolo della ricerca e sviluppo tecnologico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572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57200" algn="just">
              <a:lnSpc>
                <a:spcPct val="100000"/>
              </a:lnSpc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ff66"/>
                </a:solidFill>
                <a:latin typeface="Verdana"/>
              </a:rPr>
              <a:t>Sviluppo dei carburanti alternativi : </a:t>
            </a:r>
            <a:r>
              <a:rPr b="1" i="1" lang="it-IT" sz="1400" spc="-1" strike="noStrike">
                <a:solidFill>
                  <a:srgbClr val="ffffff"/>
                </a:solidFill>
                <a:latin typeface="Verdana"/>
              </a:rPr>
              <a:t>ricerca e sviluppo sui biocarburanti di “seconda generazione”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"/>
          <p:cNvPicPr/>
          <p:nvPr/>
        </p:nvPicPr>
        <p:blipFill>
          <a:blip r:embed="rId2"/>
          <a:stretch/>
        </p:blipFill>
        <p:spPr>
          <a:xfrm>
            <a:off x="179280" y="0"/>
            <a:ext cx="771480" cy="7142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" descr=""/>
          <p:cNvPicPr/>
          <p:nvPr/>
        </p:nvPicPr>
        <p:blipFill>
          <a:blip r:embed="rId3"/>
          <a:stretch/>
        </p:blipFill>
        <p:spPr>
          <a:xfrm>
            <a:off x="1096920" y="0"/>
            <a:ext cx="8047080" cy="72072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7"/>
          <p:cNvSpPr/>
          <p:nvPr/>
        </p:nvSpPr>
        <p:spPr>
          <a:xfrm>
            <a:off x="684360" y="206064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Rectangle 9"/>
          <p:cNvSpPr/>
          <p:nvPr/>
        </p:nvSpPr>
        <p:spPr>
          <a:xfrm>
            <a:off x="0" y="1052640"/>
            <a:ext cx="9144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Verdana"/>
              </a:rPr>
              <a:t>Una strategia win win per la mobilità sostenibi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Rectangle 10"/>
          <p:cNvSpPr/>
          <p:nvPr/>
        </p:nvSpPr>
        <p:spPr>
          <a:xfrm>
            <a:off x="684360" y="2133720"/>
            <a:ext cx="80643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684360" y="2060640"/>
            <a:ext cx="806436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7360" y="-31680"/>
            <a:ext cx="573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vita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Rettangolo 19"/>
          <p:cNvSpPr/>
          <p:nvPr/>
        </p:nvSpPr>
        <p:spPr>
          <a:xfrm>
            <a:off x="900000" y="3860640"/>
            <a:ext cx="748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Rettangolo 12"/>
          <p:cNvSpPr/>
          <p:nvPr/>
        </p:nvSpPr>
        <p:spPr>
          <a:xfrm>
            <a:off x="250920" y="1700280"/>
            <a:ext cx="864216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ff00"/>
                </a:solidFill>
                <a:latin typeface="Verdana"/>
              </a:rPr>
              <a:t> </a:t>
            </a:r>
            <a:r>
              <a:rPr b="1" i="1" lang="it-IT" sz="1400" spc="-1" strike="noStrike">
                <a:solidFill>
                  <a:srgbClr val="ffff00"/>
                </a:solidFill>
                <a:latin typeface="Verdana"/>
              </a:rPr>
              <a:t>Estensione dei sistemi regionali di trasporto rapido di massa: </a:t>
            </a:r>
            <a:r>
              <a:rPr b="1" lang="it-IT" sz="1400" spc="-1" strike="noStrike">
                <a:solidFill>
                  <a:srgbClr val="ffffff"/>
                </a:solidFill>
                <a:latin typeface="Verdana"/>
              </a:rPr>
              <a:t>incremento sistemi integrati di trasporto ferroviario regionale e trasporto locale, intermodalità e integrazione tariffaria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ff00"/>
                </a:solidFill>
                <a:latin typeface="Verdana"/>
              </a:rPr>
              <a:t>Sostituzione, ovvero miglioramento delle prestazioni, degli autobus e dei camion immatricolati prima del 2000: </a:t>
            </a:r>
            <a:r>
              <a:rPr b="1" lang="it-IT" sz="1400" spc="-1" strike="noStrike">
                <a:solidFill>
                  <a:srgbClr val="ffffff"/>
                </a:solidFill>
                <a:latin typeface="Verdana"/>
              </a:rPr>
              <a:t>riduzione emissioni inquinanti e miglioramento TPL, filtri antiparticolato e sostituzione flotte di autobu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ff00"/>
                </a:solidFill>
                <a:latin typeface="Verdana"/>
              </a:rPr>
              <a:t>Trasferimento su treno e cabotaggio del trasporto merci  per l’attraversamento delle grandi aree metropolitane :</a:t>
            </a:r>
            <a:r>
              <a:rPr b="1" i="1" lang="it-IT" sz="1400" spc="-1" strike="noStrike">
                <a:solidFill>
                  <a:srgbClr val="ffff66"/>
                </a:solidFill>
                <a:latin typeface="Verdana"/>
              </a:rPr>
              <a:t> </a:t>
            </a:r>
            <a:r>
              <a:rPr b="1" lang="it-IT" sz="1400" spc="-1" strike="noStrike">
                <a:solidFill>
                  <a:srgbClr val="ffffff"/>
                </a:solidFill>
                <a:latin typeface="Verdana"/>
              </a:rPr>
              <a:t>estensione del trasporto ferroviario regolamentazione accesso dei camion in autostrada e contestuale trasferimento su ferrovia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ff00"/>
                </a:solidFill>
                <a:latin typeface="Verdana"/>
              </a:rPr>
              <a:t>Integrazione delle politiche nazionali e regionali con le linee di indirizzo comunitarie, e acquisizione delle buone pratiche di mobilità sostenibile realizzate a livello europeo: </a:t>
            </a:r>
            <a:r>
              <a:rPr b="1" lang="it-IT" sz="1400" spc="-1" strike="noStrike">
                <a:solidFill>
                  <a:srgbClr val="ffffff"/>
                </a:solidFill>
                <a:latin typeface="Verdana"/>
              </a:rPr>
              <a:t>riferimento all’esperienza scaturita a livello comunitario: modalità di gestione e ricerca nel settore trasporti, VIII Piano Quadro di Ricerca e Sviluppo Tecnologico. 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"/>
          <p:cNvPicPr/>
          <p:nvPr/>
        </p:nvPicPr>
        <p:blipFill>
          <a:blip r:embed="rId2"/>
          <a:stretch/>
        </p:blipFill>
        <p:spPr>
          <a:xfrm>
            <a:off x="179280" y="0"/>
            <a:ext cx="771480" cy="7142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"/>
          <p:cNvPicPr/>
          <p:nvPr/>
        </p:nvPicPr>
        <p:blipFill>
          <a:blip r:embed="rId3"/>
          <a:stretch/>
        </p:blipFill>
        <p:spPr>
          <a:xfrm>
            <a:off x="1096920" y="0"/>
            <a:ext cx="8047080" cy="7207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395280" y="105264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Verdana"/>
              </a:rPr>
              <a:t>Tavolo sulla mobilità sostenibile presso la Conferenza Stato Città ed Autonomie Locali (7 dicembre 2010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2276640"/>
            <a:ext cx="73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ctr" pos="3411360"/>
                <a:tab algn="ctr" pos="4848120"/>
                <a:tab algn="r" pos="6821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alibri"/>
              </a:rPr>
              <a:t>Acquisire dati 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di sintesi sulle </a:t>
            </a:r>
            <a:r>
              <a:rPr b="1" lang="it-IT" sz="1800" spc="-1" strike="noStrike">
                <a:solidFill>
                  <a:srgbClr val="ffff00"/>
                </a:solidFill>
                <a:latin typeface="Calibri"/>
              </a:rPr>
              <a:t>priorità</a:t>
            </a:r>
            <a:r>
              <a:rPr b="1" lang="it-IT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individuate dai Comuni sul settore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ctr" pos="3411360"/>
                <a:tab algn="ctr" pos="4848120"/>
                <a:tab algn="r" pos="6821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della mobilità urban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-160920" y="2997360"/>
            <a:ext cx="85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ctr" pos="3411360"/>
                <a:tab algn="ctr" pos="4848120"/>
                <a:tab algn="r" pos="6821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Favorire </a:t>
            </a:r>
            <a:r>
              <a:rPr b="1" lang="it-IT" sz="1800" spc="-1" strike="noStrike">
                <a:solidFill>
                  <a:srgbClr val="ffffff"/>
                </a:solidFill>
                <a:latin typeface="Calibri"/>
              </a:rPr>
              <a:t>l’attività di confronto 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tra le istituzioni competenti per la condivisione di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ctr" pos="3411360"/>
                <a:tab algn="ctr" pos="4848120"/>
                <a:tab algn="r" pos="6821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it-IT" sz="18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Calibri"/>
              </a:rPr>
              <a:t>indicatori</a:t>
            </a:r>
            <a:r>
              <a:rPr b="1" lang="it-IT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per la valutazione ex post dell’efficacia in termini ambientali delle singole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ctr" pos="3411360"/>
                <a:tab algn="ctr" pos="4848120"/>
                <a:tab algn="r" pos="6821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tipologie di interventi di mobilità sostenibi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/>
          <p:nvPr/>
        </p:nvSpPr>
        <p:spPr>
          <a:xfrm>
            <a:off x="-157680" y="4005360"/>
            <a:ext cx="883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ctr" pos="3411360"/>
                <a:tab algn="ctr" pos="4848120"/>
                <a:tab algn="r" pos="6821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Promuovere </a:t>
            </a:r>
            <a:r>
              <a:rPr b="1" lang="it-IT" sz="1800" spc="-1" strike="noStrike">
                <a:solidFill>
                  <a:srgbClr val="ffff00"/>
                </a:solidFill>
                <a:latin typeface="Calibri"/>
              </a:rPr>
              <a:t>forme di coordinamento e scambio</a:t>
            </a:r>
            <a:r>
              <a:rPr b="1" lang="it-IT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di competenze tecniche tra i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ctr" pos="3411360"/>
                <a:tab algn="ctr" pos="4848120"/>
                <a:tab algn="r" pos="6821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Comuni per la realizzazione e la gestione ottimale degli interventi di mobilità sostenibi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"/>
          <p:cNvSpPr/>
          <p:nvPr/>
        </p:nvSpPr>
        <p:spPr>
          <a:xfrm>
            <a:off x="-140760" y="4869000"/>
            <a:ext cx="800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ctr" pos="3411360"/>
                <a:tab algn="ctr" pos="4848120"/>
                <a:tab algn="r" pos="6821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Condividere le </a:t>
            </a:r>
            <a:r>
              <a:rPr b="1" lang="it-IT" sz="1800" spc="-1" strike="noStrike">
                <a:solidFill>
                  <a:srgbClr val="ffff00"/>
                </a:solidFill>
                <a:latin typeface="Calibri"/>
              </a:rPr>
              <a:t>modalità di comunicazione</a:t>
            </a:r>
            <a:r>
              <a:rPr b="1" lang="it-IT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del risultati del Tavolo, in vista della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ctr" pos="3411360"/>
                <a:tab algn="ctr" pos="4848120"/>
                <a:tab algn="r" pos="6821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preparazione della Conferenza Nazionale sulla Mobilità Sostenibile che si terrà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ctr" pos="3411360"/>
                <a:tab algn="ctr" pos="4848120"/>
                <a:tab algn="r" pos="6821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a Catania nel corso del 2011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0" y="44280"/>
            <a:ext cx="9144000" cy="7923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"/>
          <p:cNvPicPr/>
          <p:nvPr/>
        </p:nvPicPr>
        <p:blipFill>
          <a:blip r:embed="rId2"/>
          <a:stretch/>
        </p:blipFill>
        <p:spPr>
          <a:xfrm>
            <a:off x="200160" y="44280"/>
            <a:ext cx="771480" cy="71460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9"/>
          <p:cNvSpPr/>
          <p:nvPr/>
        </p:nvSpPr>
        <p:spPr>
          <a:xfrm>
            <a:off x="395280" y="1989000"/>
            <a:ext cx="822960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00"/>
                </a:solidFill>
                <a:latin typeface="Arial"/>
              </a:rPr>
              <a:t>Grazie per l’attenzion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Direzione Generale per lo Sviluppo Sostenibile, il Clima e l’Energi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Tel +39.06.5722.8256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Fax +39.06.5722.8214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E-mail: simone.riccardo@minambiente.i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3"/>
          <a:stretch/>
        </p:blipFill>
        <p:spPr>
          <a:xfrm>
            <a:off x="1116000" y="44280"/>
            <a:ext cx="8040600" cy="7207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"/>
          <p:cNvPicPr/>
          <p:nvPr/>
        </p:nvPicPr>
        <p:blipFill>
          <a:blip r:embed="rId4"/>
          <a:stretch/>
        </p:blipFill>
        <p:spPr>
          <a:xfrm>
            <a:off x="1042920" y="44280"/>
            <a:ext cx="804708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"/>
          <p:cNvPicPr/>
          <p:nvPr/>
        </p:nvPicPr>
        <p:blipFill>
          <a:blip r:embed="rId2"/>
          <a:stretch/>
        </p:blipFill>
        <p:spPr>
          <a:xfrm>
            <a:off x="179280" y="0"/>
            <a:ext cx="771480" cy="7142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"/>
          <p:cNvPicPr/>
          <p:nvPr/>
        </p:nvPicPr>
        <p:blipFill>
          <a:blip r:embed="rId3"/>
          <a:stretch/>
        </p:blipFill>
        <p:spPr>
          <a:xfrm>
            <a:off x="1096920" y="44280"/>
            <a:ext cx="8047080" cy="72072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11"/>
          <p:cNvSpPr/>
          <p:nvPr/>
        </p:nvSpPr>
        <p:spPr>
          <a:xfrm>
            <a:off x="324000" y="1052640"/>
            <a:ext cx="8496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Verdana"/>
              </a:rPr>
              <a:t>Diritto alla mobilità e politiche di sviluppo sostenibi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539640" y="2276640"/>
            <a:ext cx="78184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Rectangle 14"/>
          <p:cNvSpPr/>
          <p:nvPr/>
        </p:nvSpPr>
        <p:spPr>
          <a:xfrm>
            <a:off x="571680" y="5572080"/>
            <a:ext cx="81039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Freccia in su 8"/>
          <p:cNvSpPr/>
          <p:nvPr/>
        </p:nvSpPr>
        <p:spPr>
          <a:xfrm flipV="1">
            <a:off x="4214880" y="4071960"/>
            <a:ext cx="484200" cy="1285920"/>
          </a:xfrm>
          <a:prstGeom prst="upArrow">
            <a:avLst>
              <a:gd name="adj1" fmla="val 50000"/>
              <a:gd name="adj2" fmla="val 50005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Rettangolo 10"/>
          <p:cNvSpPr/>
          <p:nvPr/>
        </p:nvSpPr>
        <p:spPr>
          <a:xfrm>
            <a:off x="1428840" y="5429160"/>
            <a:ext cx="63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Interventi a favore della mobilità in ambito urban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611280" y="1700280"/>
            <a:ext cx="763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Se la mobilità è strumento essenziale per lo svolgimento delle attività economiche e sociali, è fondamentale che il diritto alla mobilità individuale sia reso compatibile con le politiche di sviluppo sostenibile, finalizzate alla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riduzione dell’inquinamento atmosferico e acustic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riduzione dei consumi energetic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sicurezz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qualità dell’ambiente e della vit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"/>
          <p:cNvPicPr/>
          <p:nvPr/>
        </p:nvPicPr>
        <p:blipFill>
          <a:blip r:embed="rId2"/>
          <a:stretch/>
        </p:blipFill>
        <p:spPr>
          <a:xfrm>
            <a:off x="179280" y="0"/>
            <a:ext cx="771480" cy="7142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"/>
          <p:cNvPicPr/>
          <p:nvPr/>
        </p:nvPicPr>
        <p:blipFill>
          <a:blip r:embed="rId3"/>
          <a:stretch/>
        </p:blipFill>
        <p:spPr>
          <a:xfrm>
            <a:off x="1096920" y="44280"/>
            <a:ext cx="8047080" cy="72072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2"/>
          <p:cNvSpPr/>
          <p:nvPr/>
        </p:nvSpPr>
        <p:spPr>
          <a:xfrm>
            <a:off x="468360" y="907920"/>
            <a:ext cx="822960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Le azion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457200" y="1600200"/>
            <a:ext cx="8435880" cy="42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Realizzazione di infrastrutture che favoriscano l'uso del mezzo pubblico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orsie riservate,  sistemi di preferenziamento semaforico e di gestione delle flotte del Trasporto Pubblico)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Realizzazione di sistemi di tariffazione integrat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Potenziamento e ammodernamento dei veicoli del Trasporto Pubblico</a:t>
            </a: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Diffusione della figura del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bility Manager e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di attuazione di azioni d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obility Management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Realizzazione di servizi di </a:t>
            </a: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Infomobilità,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sistemi tecnologici di informazione, di comunicazione e di pianificazione del viaggio da parte dell’utenza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Realizzazione e/o potenziamento dei </a:t>
            </a: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servizi integrativi e complementari al trasporto pubblico locale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, (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rvizi a chiamata, il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 sharing e il car pooling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Promozione dell’intermodalità tra trasporto pubblico e  mobilità ciclo-pedonale</a:t>
            </a: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(sviluppo dell’integrazione tra bici e treno, mediante la realizzazione di strutture e infrastrutture nei mezzi e nelle fermate del trasporto pubblico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"/>
          <p:cNvPicPr/>
          <p:nvPr/>
        </p:nvPicPr>
        <p:blipFill>
          <a:blip r:embed="rId2"/>
          <a:stretch/>
        </p:blipFill>
        <p:spPr>
          <a:xfrm>
            <a:off x="200160" y="44280"/>
            <a:ext cx="771480" cy="714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"/>
          <p:cNvPicPr/>
          <p:nvPr/>
        </p:nvPicPr>
        <p:blipFill>
          <a:blip r:embed="rId3"/>
          <a:stretch/>
        </p:blipFill>
        <p:spPr>
          <a:xfrm>
            <a:off x="1096920" y="44280"/>
            <a:ext cx="8047080" cy="72072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9"/>
          <p:cNvSpPr/>
          <p:nvPr/>
        </p:nvSpPr>
        <p:spPr>
          <a:xfrm>
            <a:off x="0" y="907920"/>
            <a:ext cx="9144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00"/>
                </a:solidFill>
                <a:latin typeface="Verdana"/>
              </a:rPr>
              <a:t>I cofinanziamenti del MATTM per la mobilità sostenibil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0" name="Picture 7" descr=""/>
          <p:cNvPicPr/>
          <p:nvPr/>
        </p:nvPicPr>
        <p:blipFill>
          <a:blip r:embed="rId4"/>
          <a:stretch/>
        </p:blipFill>
        <p:spPr>
          <a:xfrm>
            <a:off x="468360" y="1341360"/>
            <a:ext cx="4683240" cy="547236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11"/>
          <p:cNvSpPr/>
          <p:nvPr/>
        </p:nvSpPr>
        <p:spPr>
          <a:xfrm>
            <a:off x="5292720" y="2852640"/>
            <a:ext cx="3529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Risorse erogate a titolo di cofinanziamento:  € 615 ml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292720" y="4292640"/>
            <a:ext cx="3780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Soggetti beneficiari: 160 EE.LL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329080" y="3573360"/>
            <a:ext cx="3780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Valore complessivo interventi cofinanziati: € 970 ml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"/>
          <p:cNvPicPr/>
          <p:nvPr/>
        </p:nvPicPr>
        <p:blipFill>
          <a:blip r:embed="rId2"/>
          <a:stretch/>
        </p:blipFill>
        <p:spPr>
          <a:xfrm>
            <a:off x="200160" y="44280"/>
            <a:ext cx="771480" cy="714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"/>
          <p:cNvPicPr/>
          <p:nvPr/>
        </p:nvPicPr>
        <p:blipFill>
          <a:blip r:embed="rId3"/>
          <a:stretch/>
        </p:blipFill>
        <p:spPr>
          <a:xfrm>
            <a:off x="1096920" y="44280"/>
            <a:ext cx="8047080" cy="720720"/>
          </a:xfrm>
          <a:prstGeom prst="rect">
            <a:avLst/>
          </a:prstGeom>
          <a:ln w="0">
            <a:noFill/>
          </a:ln>
        </p:spPr>
      </p:pic>
      <p:sp>
        <p:nvSpPr>
          <p:cNvPr id="157" name="Titolo 1"/>
          <p:cNvSpPr/>
          <p:nvPr/>
        </p:nvSpPr>
        <p:spPr>
          <a:xfrm>
            <a:off x="457200" y="1197000"/>
            <a:ext cx="822816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66"/>
                </a:solidFill>
                <a:latin typeface="Arial"/>
              </a:rPr>
              <a:t>Programma di finanziamenti per il miglioramento della qualità dell’aria nelle aree urbane e per il potenziamento del trasporto pubblico</a:t>
            </a:r>
            <a:br>
              <a:rPr sz="1800"/>
            </a:br>
            <a:r>
              <a:rPr b="1" lang="it-IT" sz="1800" spc="-1" strike="noStrike">
                <a:solidFill>
                  <a:srgbClr val="ffff66"/>
                </a:solidFill>
                <a:latin typeface="Arial"/>
              </a:rPr>
              <a:t> Legge n. 296 del 27 dicembre 2006 - Finanziaria 2007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Segnaposto contenuto 2"/>
          <p:cNvSpPr/>
          <p:nvPr/>
        </p:nvSpPr>
        <p:spPr>
          <a:xfrm>
            <a:off x="539640" y="2276640"/>
            <a:ext cx="822960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Fondo per la mobilità sostenibile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: Finanziamento di 239 ML di euro per il triennio 2007 – 2009 a favore di enti local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l programma prevede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9 tipologie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di intervento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Arial"/>
              </a:rPr>
              <a:t>Realizzazione di servizi e infrastrutture per il trasporto pubblic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Arial"/>
              </a:rPr>
              <a:t>Potenziamento e sostituzione flotta con veicoli a basso impatto e potenziamento infomobilit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Arial"/>
              </a:rPr>
              <a:t>Razionalizzazione consegna merci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Arial"/>
              </a:rPr>
              <a:t>Parcheggi di interscambio  e intermodalit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Arial"/>
              </a:rPr>
              <a:t>Diffusione ed utilizzo dei carburanti a basso impatto ambientale e potenziamento reti di distribuzion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Arial"/>
              </a:rPr>
              <a:t>Diffusione  del Mobility manager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Arial"/>
              </a:rPr>
              <a:t>Servizi integrativi al TPL (car sharing, taxi collettivo ecc.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Arial"/>
              </a:rPr>
              <a:t>Promozione mobilità ciclistic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Arial"/>
              </a:rPr>
              <a:t>Realizzazione di interventi specifici per aumentare la sicurezza degli utenti debol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"/>
          <p:cNvPicPr/>
          <p:nvPr/>
        </p:nvPicPr>
        <p:blipFill>
          <a:blip r:embed="rId2"/>
          <a:stretch/>
        </p:blipFill>
        <p:spPr>
          <a:xfrm>
            <a:off x="200160" y="44280"/>
            <a:ext cx="771480" cy="714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"/>
          <p:cNvPicPr/>
          <p:nvPr/>
        </p:nvPicPr>
        <p:blipFill>
          <a:blip r:embed="rId3"/>
          <a:stretch/>
        </p:blipFill>
        <p:spPr>
          <a:xfrm>
            <a:off x="1096920" y="44280"/>
            <a:ext cx="8047080" cy="7207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5"/>
          <p:cNvSpPr/>
          <p:nvPr/>
        </p:nvSpPr>
        <p:spPr>
          <a:xfrm>
            <a:off x="0" y="836640"/>
            <a:ext cx="9144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Verdana"/>
              </a:rPr>
              <a:t>Fondo Mobilità Sostenibi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3" name="CasellaDiTesto 11"/>
          <p:cNvGrpSpPr/>
          <p:nvPr/>
        </p:nvGrpSpPr>
        <p:grpSpPr>
          <a:xfrm>
            <a:off x="684360" y="2492280"/>
            <a:ext cx="7454880" cy="3443400"/>
            <a:chOff x="684360" y="2492280"/>
            <a:chExt cx="7454880" cy="3443400"/>
          </a:xfrm>
        </p:grpSpPr>
        <p:pic>
          <p:nvPicPr>
            <p:cNvPr id="164" name="CasellaDiTesto 11" descr=""/>
            <p:cNvPicPr/>
            <p:nvPr/>
          </p:nvPicPr>
          <p:blipFill>
            <a:blip r:embed="rId4"/>
            <a:stretch/>
          </p:blipFill>
          <p:spPr>
            <a:xfrm>
              <a:off x="684360" y="2492280"/>
              <a:ext cx="7454880" cy="344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700200" y="2509920"/>
              <a:ext cx="7429680" cy="33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4600">
                <a:lnSpc>
                  <a:spcPct val="150000"/>
                </a:lnSpc>
                <a:tabLst>
                  <a:tab algn="l" pos="0"/>
                  <a:tab algn="r" pos="3497400"/>
                  <a:tab algn="r" pos="5297400"/>
                  <a:tab algn="r" pos="682164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Mobilità ciclistica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53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 36.013.776 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 81.064.573 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  <a:p>
              <a:pPr marL="174600">
                <a:lnSpc>
                  <a:spcPct val="150000"/>
                </a:lnSpc>
                <a:tabLst>
                  <a:tab algn="l" pos="0"/>
                  <a:tab algn="r" pos="3497400"/>
                  <a:tab algn="r" pos="5297400"/>
                  <a:tab algn="r" pos="682164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Distribuzione merci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 2.433.553 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 5.970.578 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  <a:p>
              <a:pPr marL="174600">
                <a:lnSpc>
                  <a:spcPct val="150000"/>
                </a:lnSpc>
                <a:tabLst>
                  <a:tab algn="l" pos="0"/>
                  <a:tab algn="r" pos="3497400"/>
                  <a:tab algn="r" pos="5297400"/>
                  <a:tab algn="r" pos="682164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Carburanti a basso impatto 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 1.780.627 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 3.283.420 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  <a:p>
              <a:pPr marL="174600">
                <a:lnSpc>
                  <a:spcPct val="150000"/>
                </a:lnSpc>
                <a:tabLst>
                  <a:tab algn="l" pos="0"/>
                  <a:tab algn="r" pos="3497400"/>
                  <a:tab algn="r" pos="5297400"/>
                  <a:tab algn="r" pos="682164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Sicurezza utenti deboli della strada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19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 19.215.863 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 32.592.851 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  <a:p>
              <a:pPr marL="174600">
                <a:lnSpc>
                  <a:spcPct val="150000"/>
                </a:lnSpc>
                <a:tabLst>
                  <a:tab algn="l" pos="0"/>
                  <a:tab algn="r" pos="3497400"/>
                  <a:tab algn="r" pos="5297400"/>
                  <a:tab algn="r" pos="682164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Parcheggi di interscambio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25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 28.191.056 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 72.440.081 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  <a:p>
              <a:pPr marL="174600">
                <a:lnSpc>
                  <a:spcPct val="150000"/>
                </a:lnSpc>
                <a:tabLst>
                  <a:tab algn="l" pos="0"/>
                  <a:tab algn="r" pos="3497400"/>
                  <a:tab algn="r" pos="5297400"/>
                  <a:tab algn="r" pos="682164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Potenziamento  TPL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38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 50.177.506 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 82.217.391 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  <a:p>
              <a:pPr marL="174600">
                <a:lnSpc>
                  <a:spcPct val="150000"/>
                </a:lnSpc>
                <a:tabLst>
                  <a:tab algn="l" pos="0"/>
                  <a:tab algn="r" pos="3497400"/>
                  <a:tab algn="r" pos="5297400"/>
                  <a:tab algn="r" pos="682164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Servizi a favore TPL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30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 49.529.229 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 121.463.577 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  <a:p>
              <a:pPr marL="174600">
                <a:lnSpc>
                  <a:spcPct val="150000"/>
                </a:lnSpc>
                <a:tabLst>
                  <a:tab algn="l" pos="0"/>
                  <a:tab algn="r" pos="3497400"/>
                  <a:tab algn="r" pos="5297400"/>
                  <a:tab algn="r" pos="682164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Servizi integrativi TPL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 6.378.869 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 9.468.858 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  <a:p>
              <a:pPr marL="174600">
                <a:lnSpc>
                  <a:spcPct val="150000"/>
                </a:lnSpc>
                <a:tabLst>
                  <a:tab algn="l" pos="0"/>
                  <a:tab algn="r" pos="3497400"/>
                  <a:tab algn="r" pos="5297400"/>
                  <a:tab algn="r" pos="682164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Mobility management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 1.273.033 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 1.961.000 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66" name="CasellaDiTesto 46"/>
          <p:cNvGrpSpPr/>
          <p:nvPr/>
        </p:nvGrpSpPr>
        <p:grpSpPr>
          <a:xfrm>
            <a:off x="684360" y="6021360"/>
            <a:ext cx="7454880" cy="401760"/>
            <a:chOff x="684360" y="6021360"/>
            <a:chExt cx="7454880" cy="401760"/>
          </a:xfrm>
        </p:grpSpPr>
        <p:pic>
          <p:nvPicPr>
            <p:cNvPr id="167" name="CasellaDiTesto 46" descr=""/>
            <p:cNvPicPr/>
            <p:nvPr/>
          </p:nvPicPr>
          <p:blipFill>
            <a:blip r:embed="rId5"/>
            <a:stretch/>
          </p:blipFill>
          <p:spPr>
            <a:xfrm>
              <a:off x="684360" y="6021360"/>
              <a:ext cx="7454880" cy="4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700200" y="6039000"/>
              <a:ext cx="742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4600">
                <a:lnSpc>
                  <a:spcPct val="100000"/>
                </a:lnSpc>
                <a:tabLst>
                  <a:tab algn="l" pos="0"/>
                  <a:tab algn="r" pos="3497400"/>
                  <a:tab algn="r" pos="5297400"/>
                  <a:tab algn="r" pos="682164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Calibri"/>
                </a:rPr>
                <a:t>Totale </a:t>
              </a:r>
              <a:r>
                <a:rPr b="1" lang="it-IT" sz="18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800" spc="-1" strike="noStrike">
                  <a:solidFill>
                    <a:srgbClr val="000000"/>
                  </a:solidFill>
                  <a:latin typeface="Calibri"/>
                </a:rPr>
                <a:t>187</a:t>
              </a:r>
              <a:r>
                <a:rPr b="1" lang="it-IT" sz="18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800" spc="-1" strike="noStrike">
                  <a:solidFill>
                    <a:srgbClr val="000000"/>
                  </a:solidFill>
                  <a:latin typeface="Calibri"/>
                </a:rPr>
                <a:t> € 194.993.512</a:t>
              </a:r>
              <a:r>
                <a:rPr b="1" lang="it-IT" sz="18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800" spc="-1" strike="noStrike">
                  <a:solidFill>
                    <a:srgbClr val="000000"/>
                  </a:solidFill>
                  <a:latin typeface="Calibri"/>
                </a:rPr>
                <a:t> € 410.462.329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69" name="CasellaDiTesto 12"/>
          <p:cNvGrpSpPr/>
          <p:nvPr/>
        </p:nvGrpSpPr>
        <p:grpSpPr>
          <a:xfrm>
            <a:off x="684360" y="1700280"/>
            <a:ext cx="7454880" cy="676080"/>
            <a:chOff x="684360" y="1700280"/>
            <a:chExt cx="7454880" cy="676080"/>
          </a:xfrm>
        </p:grpSpPr>
        <p:pic>
          <p:nvPicPr>
            <p:cNvPr id="170" name="CasellaDiTesto 12" descr=""/>
            <p:cNvPicPr/>
            <p:nvPr/>
          </p:nvPicPr>
          <p:blipFill>
            <a:blip r:embed="rId6"/>
            <a:stretch/>
          </p:blipFill>
          <p:spPr>
            <a:xfrm>
              <a:off x="684360" y="1700280"/>
              <a:ext cx="7454880" cy="67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700200" y="1715760"/>
              <a:ext cx="7429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4600" indent="-174600">
                <a:lnSpc>
                  <a:spcPct val="100000"/>
                </a:lnSpc>
                <a:tabLst>
                  <a:tab algn="l" pos="0"/>
                  <a:tab algn="ctr" pos="3411360"/>
                  <a:tab algn="ctr" pos="4848120"/>
                  <a:tab algn="r" pos="682164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Calibri"/>
                </a:rPr>
                <a:t>	</a:t>
              </a:r>
              <a:r>
                <a:rPr b="1" lang="it-IT" sz="1800" spc="-1" strike="noStrike">
                  <a:solidFill>
                    <a:srgbClr val="000000"/>
                  </a:solidFill>
                  <a:latin typeface="Calibri"/>
                </a:rPr>
                <a:t>Tipologia</a:t>
              </a:r>
              <a:r>
                <a:rPr b="1" lang="it-IT" sz="18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800" spc="-1" strike="noStrike">
                  <a:solidFill>
                    <a:srgbClr val="000000"/>
                  </a:solidFill>
                  <a:latin typeface="Calibri"/>
                </a:rPr>
                <a:t>Num. </a:t>
              </a:r>
              <a:r>
                <a:rPr b="1" lang="it-IT" sz="18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800" spc="-1" strike="noStrike">
                  <a:solidFill>
                    <a:srgbClr val="000000"/>
                  </a:solidFill>
                  <a:latin typeface="Calibri"/>
                </a:rPr>
                <a:t>Importo  </a:t>
              </a:r>
              <a:r>
                <a:rPr b="1" lang="it-IT" sz="18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800" spc="-1" strike="noStrike">
                  <a:solidFill>
                    <a:srgbClr val="000000"/>
                  </a:solidFill>
                  <a:latin typeface="Calibri"/>
                </a:rPr>
                <a:t>Costo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  <a:p>
              <a:pPr marL="174600" indent="-174600">
                <a:lnSpc>
                  <a:spcPct val="100000"/>
                </a:lnSpc>
                <a:tabLst>
                  <a:tab algn="l" pos="0"/>
                  <a:tab algn="ctr" pos="3411360"/>
                  <a:tab algn="ctr" pos="4848120"/>
                  <a:tab algn="r" pos="682164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800" spc="-1" strike="noStrike">
                  <a:solidFill>
                    <a:srgbClr val="000000"/>
                  </a:solidFill>
                  <a:latin typeface="Calibri"/>
                </a:rPr>
                <a:t>interventi</a:t>
              </a:r>
              <a:r>
                <a:rPr b="1" lang="it-IT" sz="18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800" spc="-1" strike="noStrike">
                  <a:solidFill>
                    <a:srgbClr val="000000"/>
                  </a:solidFill>
                  <a:latin typeface="Calibri"/>
                </a:rPr>
                <a:t>Interventi</a:t>
              </a:r>
              <a:r>
                <a:rPr b="1" lang="it-IT" sz="18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800" spc="-1" strike="noStrike">
                  <a:solidFill>
                    <a:srgbClr val="000000"/>
                  </a:solidFill>
                  <a:latin typeface="Calibri"/>
                </a:rPr>
                <a:t>cofinanziato</a:t>
              </a:r>
              <a:r>
                <a:rPr b="1" lang="it-IT" sz="18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800" spc="-1" strike="noStrike">
                  <a:solidFill>
                    <a:srgbClr val="000000"/>
                  </a:solidFill>
                  <a:latin typeface="Calibri"/>
                </a:rPr>
                <a:t>Totale 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"/>
          <p:cNvPicPr/>
          <p:nvPr/>
        </p:nvPicPr>
        <p:blipFill>
          <a:blip r:embed="rId2"/>
          <a:stretch/>
        </p:blipFill>
        <p:spPr>
          <a:xfrm>
            <a:off x="200160" y="44280"/>
            <a:ext cx="771480" cy="7146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"/>
          <p:cNvPicPr/>
          <p:nvPr/>
        </p:nvPicPr>
        <p:blipFill>
          <a:blip r:embed="rId3"/>
          <a:stretch/>
        </p:blipFill>
        <p:spPr>
          <a:xfrm>
            <a:off x="1096920" y="44280"/>
            <a:ext cx="8047080" cy="72072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7"/>
          <p:cNvSpPr/>
          <p:nvPr/>
        </p:nvSpPr>
        <p:spPr>
          <a:xfrm>
            <a:off x="684360" y="206064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Pubblicato in G.U.R.I. n. 88 del 16 aprile 2010, ha l’obiettivo di favorire la </a:t>
            </a:r>
            <a:r>
              <a:rPr b="1" lang="it-IT" sz="1600" spc="-1" strike="noStrike">
                <a:solidFill>
                  <a:srgbClr val="ffff66"/>
                </a:solidFill>
                <a:latin typeface="Verdana"/>
              </a:rPr>
              <a:t>realizzazione di progetti di bike sharing associati a sistemi di alimentazione mediante energie rinnovabili ed in particolare pensiline fotovoltaiche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0" y="1052640"/>
            <a:ext cx="9144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Verdana"/>
              </a:rPr>
              <a:t>Bando “Bike sharing e fonti rinnovabili”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684360" y="3284640"/>
            <a:ext cx="8064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Verdana"/>
              </a:rPr>
              <a:t>Risorse stanziate</a:t>
            </a: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: € 14 ml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Rectangle 12"/>
          <p:cNvSpPr/>
          <p:nvPr/>
        </p:nvSpPr>
        <p:spPr>
          <a:xfrm>
            <a:off x="611280" y="5013360"/>
            <a:ext cx="8064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Con decreto direttoriale del 8 febbraio 2011 sono stati ammessi a cofinanziamento </a:t>
            </a:r>
            <a:r>
              <a:rPr b="1" lang="it-IT" sz="1600" spc="-1" strike="noStrike">
                <a:solidFill>
                  <a:srgbClr val="ffff00"/>
                </a:solidFill>
                <a:latin typeface="Verdana"/>
              </a:rPr>
              <a:t>57 progetti di altrettanti soggetti beneficiari</a:t>
            </a: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, di cui 11 relativi alle aree naturali protett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Rectangle 10"/>
          <p:cNvSpPr/>
          <p:nvPr/>
        </p:nvSpPr>
        <p:spPr>
          <a:xfrm>
            <a:off x="684360" y="3860640"/>
            <a:ext cx="8064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Verdana"/>
              </a:rPr>
              <a:t>Soggetti beneficiari</a:t>
            </a: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: Comuni, Province, Consorzi di Comuni, Enti gestori dei Parchi nazionali e regionali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"/>
          <p:cNvPicPr/>
          <p:nvPr/>
        </p:nvPicPr>
        <p:blipFill>
          <a:blip r:embed="rId2"/>
          <a:stretch/>
        </p:blipFill>
        <p:spPr>
          <a:xfrm>
            <a:off x="200160" y="44280"/>
            <a:ext cx="771480" cy="7146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"/>
          <p:cNvPicPr/>
          <p:nvPr/>
        </p:nvPicPr>
        <p:blipFill>
          <a:blip r:embed="rId3"/>
          <a:stretch/>
        </p:blipFill>
        <p:spPr>
          <a:xfrm>
            <a:off x="1096920" y="44280"/>
            <a:ext cx="8047080" cy="72072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7"/>
          <p:cNvSpPr/>
          <p:nvPr/>
        </p:nvSpPr>
        <p:spPr>
          <a:xfrm>
            <a:off x="684360" y="206064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0" y="1052640"/>
            <a:ext cx="9144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Verdana"/>
              </a:rPr>
              <a:t>Tavolo tecnico per la mobilità sostenibile </a:t>
            </a:r>
            <a:r>
              <a:rPr b="1" lang="it-IT" sz="1400" spc="-1" strike="noStrike">
                <a:solidFill>
                  <a:srgbClr val="ffff00"/>
                </a:solidFill>
                <a:latin typeface="Verdana"/>
              </a:rPr>
              <a:t>(30 settembre 2010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Verdana"/>
              </a:rPr>
              <a:t>Linee di indirizzo per una strategia della mobilità sostenibi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360" y="2133720"/>
            <a:ext cx="80643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Rectangle 10"/>
          <p:cNvSpPr/>
          <p:nvPr/>
        </p:nvSpPr>
        <p:spPr>
          <a:xfrm>
            <a:off x="684360" y="2060640"/>
            <a:ext cx="806436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1800" y="1332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Rettangolo 17"/>
          <p:cNvSpPr/>
          <p:nvPr/>
        </p:nvSpPr>
        <p:spPr>
          <a:xfrm>
            <a:off x="684360" y="2421000"/>
            <a:ext cx="7489800" cy="35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ridurre le emissioni e l’inquinamento da traffico</a:t>
            </a:r>
            <a:r>
              <a:rPr b="0" lang="it-IT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nelle aree urbane e negli attraversamenti delle aree metropolitan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ridurre i consumi energetici e le emissioni di CO2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 dal settore del trasporto, che oggi raggiungono circa il 30% del total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“</a:t>
            </a:r>
            <a:r>
              <a:rPr b="1" lang="it-IT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fluidificare”</a:t>
            </a:r>
            <a:r>
              <a:rPr b="1" lang="it-I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e rendere veloce il trasporto delle persone e delle merci, componente chiave della crescita delle economie post industriali,  e ridurre contestualmente i costi della “congestione” del traffico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La mobilità sostenibile è un caso esemplare di “win-win strategy”, in quanto associa i benefici economici a quelli ambientali, lo stimolo alla crescita con il miglioramento della qualità della vita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Rettangolo 18"/>
          <p:cNvSpPr/>
          <p:nvPr/>
        </p:nvSpPr>
        <p:spPr>
          <a:xfrm>
            <a:off x="971640" y="1844640"/>
            <a:ext cx="770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ffffff"/>
                </a:solidFill>
                <a:uFillTx/>
                <a:latin typeface="Verdana"/>
                <a:ea typeface="Times New Roman"/>
              </a:rPr>
              <a:t>Tre obiettivi contestuali</a:t>
            </a:r>
            <a:r>
              <a:rPr b="1" lang="it-IT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"/>
          <p:cNvPicPr/>
          <p:nvPr/>
        </p:nvPicPr>
        <p:blipFill>
          <a:blip r:embed="rId2"/>
          <a:stretch/>
        </p:blipFill>
        <p:spPr>
          <a:xfrm>
            <a:off x="200160" y="44280"/>
            <a:ext cx="771480" cy="7146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"/>
          <p:cNvPicPr/>
          <p:nvPr/>
        </p:nvPicPr>
        <p:blipFill>
          <a:blip r:embed="rId3"/>
          <a:stretch/>
        </p:blipFill>
        <p:spPr>
          <a:xfrm>
            <a:off x="1096920" y="44280"/>
            <a:ext cx="8047080" cy="7207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7"/>
          <p:cNvSpPr/>
          <p:nvPr/>
        </p:nvSpPr>
        <p:spPr>
          <a:xfrm>
            <a:off x="684360" y="206064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0" y="1052640"/>
            <a:ext cx="9144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Verdana"/>
              </a:rPr>
              <a:t>Proposta di Linee di indirizzo per una strategia della mobilità sostenibi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684360" y="2133720"/>
            <a:ext cx="80643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Rectangle 10"/>
          <p:cNvSpPr/>
          <p:nvPr/>
        </p:nvSpPr>
        <p:spPr>
          <a:xfrm>
            <a:off x="684360" y="2060640"/>
            <a:ext cx="806436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1800" y="1332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Rettangolo 17"/>
          <p:cNvSpPr/>
          <p:nvPr/>
        </p:nvSpPr>
        <p:spPr>
          <a:xfrm>
            <a:off x="900000" y="2205000"/>
            <a:ext cx="7489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l’inquinamento atmosferico da traffico</a:t>
            </a:r>
            <a:r>
              <a:rPr b="0" lang="it-IT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è ancora una priorità per l’Italia nonostante le direttive europee e le innovazioni tecnologiche. 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La  qualità dell’ambiente nelle aree urbane è limitata da due fattori principali: numero elevato di autovetture per abitante  n. 598 /1000 abitanti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Vetustà del parco circolante (il 40% del parco supera i 10 anni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Rettangolo 19"/>
          <p:cNvSpPr/>
          <p:nvPr/>
        </p:nvSpPr>
        <p:spPr>
          <a:xfrm>
            <a:off x="900000" y="3860640"/>
            <a:ext cx="74883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le emissioni di CO2</a:t>
            </a:r>
            <a:r>
              <a:rPr b="0" lang="it-IT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del settore dei trasporti nel 2010 sono stimate in 132 milioni di  tonnellate pari al 25 % delle emissioni totali. Il trasporto su gomma è prevalente su quello su ferrovia e nave (50% di emissioni del trasporto su strada)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Verdana"/>
                <a:ea typeface="Times New Roman"/>
              </a:rPr>
              <a:t>la congestione da traffico</a:t>
            </a:r>
            <a:r>
              <a:rPr b="0" lang="it-IT" sz="1600" spc="-1" strike="noStrike">
                <a:solidFill>
                  <a:srgbClr val="ffff66"/>
                </a:solidFill>
                <a:latin typeface="Verdana"/>
                <a:ea typeface="Times New Roman"/>
              </a:rPr>
              <a:t>  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a causa dei ritardi per gli automobilisti e consegna delle merci, costa oltre 40 ML di € l’anno. Costi esterni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imoneRCR</cp:lastModifiedBy>
  <dcterms:modified xsi:type="dcterms:W3CDTF">2011-03-21T16:32:57Z</dcterms:modified>
  <cp:revision>157</cp:revision>
  <dc:subject/>
  <dc:title>PowerPoint Presentation</dc:title>
</cp:coreProperties>
</file>