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4300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4300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6529E59-859E-4F15-9510-5058D525B9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CF0216-2900-4553-96C1-D76EDCE342C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5534D1A-3CC1-4EC3-9C10-D25F15CFB91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9142075-46AA-4BC9-9E65-F14BFCF1A94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F0EB9A2-611E-4528-AAD8-79DF039E9E9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C72266A-B061-4D0A-A21A-84FA3EDF325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FA7D199-A545-4D76-9A18-23F7D95736B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CE11404-32E2-4F51-BCB0-DC72D2814AA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AF1C7CB-0F85-439E-AADE-47028D7D22C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65A4454-61F6-4418-9A0B-8357F39860F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F5D-1574-480B-B8E8-D226AC69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036-2E7D-46D9-8670-844257F0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A57-6868-46D2-BA7D-4F25EF1F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D41-1EF1-4D5F-AA1B-EF484166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79F6-E809-4456-823D-7E1B148B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0AA-4110-4151-9B7E-92DE8073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B1E5-30AB-472E-A037-8D32F4EC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10DE-8813-4C2C-BCF9-BF6485AC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C822-E90D-4D57-AB8D-31DB59EA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AFD9-1202-482D-8920-660AB72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8E4B-1701-4449-A623-15FF55A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319-1B7A-4A08-98A8-B7C73C05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C611-A693-4041-813C-85430A5A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D0B3-E29C-47F9-9A10-7068C395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C9C0-A02B-4046-882D-8C483EA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CD4A-A94D-484D-9C76-BD396E5B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76EA-69FC-47AF-80A9-3582F4F7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B8F-DC3C-49B6-BB1F-0EA15862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ED4-B530-44A3-8660-9E22AB8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635-CD4B-4E5B-96E7-03969ABF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75A-A412-4C6E-BC39-F1499EA9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043-B306-441E-A9C4-6E4C1D2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5D1-D25C-4F4E-9B39-AF9F835E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890-1854-4A46-B6B7-FA2939E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B48C-CDE3-4614-AB9D-51D523D8C5BF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29EB-E479-484D-90A4-01605F90327A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82090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Indirizzi del Governo italiano sulle politiche di mobilità sostenibile nelle aree urb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124000" y="3789360"/>
            <a:ext cx="46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Sala Conferenze della Provincia di Viterb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Viterbo 24 marzo 201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1042920" y="5300640"/>
            <a:ext cx="698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ott. Riccardo Simo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Direzione Generale per lo Sviluppo sostenibile, il Clima e l’Energ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Group 10"/>
          <p:cNvGrpSpPr/>
          <p:nvPr/>
        </p:nvGrpSpPr>
        <p:grpSpPr>
          <a:xfrm>
            <a:off x="250920" y="620640"/>
            <a:ext cx="8496000" cy="2175840"/>
            <a:chOff x="250920" y="620640"/>
            <a:chExt cx="8496000" cy="2175840"/>
          </a:xfrm>
        </p:grpSpPr>
        <p:sp>
          <p:nvSpPr>
            <p:cNvPr id="130" name="Text Box 11"/>
            <p:cNvSpPr/>
            <p:nvPr/>
          </p:nvSpPr>
          <p:spPr>
            <a:xfrm>
              <a:off x="250920" y="1849320"/>
              <a:ext cx="84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66"/>
                  </a:solidFill>
                  <a:latin typeface="Verdana"/>
                </a:rPr>
                <a:t> </a:t>
              </a:r>
              <a:r>
                <a:rPr b="1" lang="en-GB" sz="4000" spc="-1" strike="noStrike">
                  <a:solidFill>
                    <a:srgbClr val="ffffff"/>
                  </a:solidFill>
                  <a:latin typeface="Palace Script MT"/>
                </a:rPr>
                <a:t>Ministero dell’Ambiente e della Tutela del Territorio  e del Mare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1" name="Picture 12" descr="Immagine3"/>
            <p:cNvPicPr/>
            <p:nvPr/>
          </p:nvPicPr>
          <p:blipFill>
            <a:blip r:embed="rId1"/>
            <a:stretch/>
          </p:blipFill>
          <p:spPr>
            <a:xfrm>
              <a:off x="3798000" y="620640"/>
              <a:ext cx="1283040" cy="122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1096920" y="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Una strategia win win per la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84360" y="2060640"/>
            <a:ext cx="806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7360" y="-31680"/>
            <a:ext cx="57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vit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ttangolo 19"/>
          <p:cNvSpPr/>
          <p:nvPr/>
        </p:nvSpPr>
        <p:spPr>
          <a:xfrm>
            <a:off x="900000" y="386064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ttangolo 12"/>
          <p:cNvSpPr/>
          <p:nvPr/>
        </p:nvSpPr>
        <p:spPr>
          <a:xfrm>
            <a:off x="250920" y="1844640"/>
            <a:ext cx="8642160" cy="3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  <a:ea typeface="Times New Roman"/>
              </a:rPr>
              <a:t>Regolamentazione dell’accesso ai centri urbani delle auto e dei veicoli di trasporto delle merci: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Nuova fase oltre le ZTL  regolamentata a livello nazionale, introduzione di sistemi di I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Sostegno alle politiche urbane a favore della mobilità ciclistica e del potenziamento di servizi integrativi al  trasporto pubblico locale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Servizi di trasporto flessibili, mobility management, intermodalit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it-IT" sz="1600" spc="-1" strike="noStrike">
                <a:solidFill>
                  <a:srgbClr val="ffff00"/>
                </a:solidFill>
                <a:latin typeface="Verdana"/>
              </a:rPr>
              <a:t>P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roduzione e diffusione di auto ad alta efficienza e  basse emissioni (elettriche, 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ibride plug- in, a gas naturale) in sostituzione delle auto circolanti 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immatricolate 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prima del 2001: </a:t>
            </a: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Le auto elettriche: generazione di elettricità da fonti rinnovabili, gestione batterie per minimizzare gli effetti sui rifiuti, ricarica rapida, in sostituzione del parco circolante , il ruolo della ricerca e sviluppo tecnologic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66"/>
                </a:solidFill>
                <a:latin typeface="Verdana"/>
              </a:rPr>
              <a:t>Sviluppo dei carburanti alternativi : </a:t>
            </a: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ricerca e sviluppo sui biocarburanti di “seconda generazione”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1096920" y="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Una strategia win win per la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84360" y="206064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7360" y="-31680"/>
            <a:ext cx="57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vit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ttangolo 19"/>
          <p:cNvSpPr/>
          <p:nvPr/>
        </p:nvSpPr>
        <p:spPr>
          <a:xfrm>
            <a:off x="900000" y="386064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ttangolo 12"/>
          <p:cNvSpPr/>
          <p:nvPr/>
        </p:nvSpPr>
        <p:spPr>
          <a:xfrm>
            <a:off x="250920" y="1700280"/>
            <a:ext cx="8642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Estensione dei sistemi regionali di trasporto rapido di massa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incremento sistemi integrati di trasporto ferroviario regionale e trasporto locale, intermodalità e integrazione tariffar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Sostituzione, ovvero miglioramento delle prestazioni, degli autobus e dei camion immatricolati prima del 2000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riduzione emissioni inquinanti e miglioramento TPL, filtri antiparticolato e sostituzione flotte di autobu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Trasferimento su treno e cabotaggio del trasporto merci  per l’attraversamento delle grandi aree metropolitane :</a:t>
            </a:r>
            <a:r>
              <a:rPr b="1" i="1" lang="it-IT" sz="1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estensione del trasporto ferroviario regolamentazione accesso dei camion in autostrada e contestuale trasferimento su ferrov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Integrazione delle politiche nazionali e regionali con le linee di indirizzo comunitarie, e acquisizione delle buone pratiche di mobilità sostenibile realizzate a livello europeo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riferimento all’esperienza scaturita a livello comunitario: modalità di gestione e ricerca nel settore trasporti, VIII Piano Quadro di Ricerca e Sviluppo Tecnologico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3"/>
          <a:stretch/>
        </p:blipFill>
        <p:spPr>
          <a:xfrm>
            <a:off x="1096920" y="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1052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Tavolo sulla mobilità sostenibile presso la Conferenza Stato Città ed Autonomie Locali (7 dicembre 201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27664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cquisire dati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 sintesi sulle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priorità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dividuate dai Comuni sul setto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lla mobilità urba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-160920" y="299736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avorire 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l’attività di confronto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ra le istituzioni competenti per la condivisione d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indicatori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er la valutazione ex post dell’efficacia in termini ambientali delle singo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ipologie di interventi di mobilità sosteni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-157680" y="4005360"/>
            <a:ext cx="88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muovere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forme di coordinamento e scambio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 competenze tecniche tra 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muni per la realizzazione e la gestione ottimale degli interventi di mobilità sosteni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-140760" y="4869000"/>
            <a:ext cx="80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ndividere le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modalità di comunicazione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l risultati del Tavolo, in vista dell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eparazione della Conferenza Nazionale sulla Mobilità Sostenibile che si terr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 Catania nel corso del 2011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7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9"/>
          <p:cNvSpPr/>
          <p:nvPr/>
        </p:nvSpPr>
        <p:spPr>
          <a:xfrm>
            <a:off x="395280" y="198900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"/>
              </a:rPr>
              <a:t>Grazie per l’attenzion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rezione Generale per lo Sviluppo Sostenibile, il Clima e l’Energ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l +39.06.5722.825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ax +39.06.5722.821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E-mail: simone.riccardo@minambiente.i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3"/>
          <a:stretch/>
        </p:blipFill>
        <p:spPr>
          <a:xfrm>
            <a:off x="1116000" y="44280"/>
            <a:ext cx="804060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4"/>
          <a:stretch/>
        </p:blipFill>
        <p:spPr>
          <a:xfrm>
            <a:off x="1042920" y="44280"/>
            <a:ext cx="8047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1"/>
          <p:cNvSpPr/>
          <p:nvPr/>
        </p:nvSpPr>
        <p:spPr>
          <a:xfrm>
            <a:off x="324000" y="1052640"/>
            <a:ext cx="849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Diritto alla mobilità e politiche di sviluppo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539640" y="2276640"/>
            <a:ext cx="7818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571680" y="5572080"/>
            <a:ext cx="810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Freccia in su 8"/>
          <p:cNvSpPr/>
          <p:nvPr/>
        </p:nvSpPr>
        <p:spPr>
          <a:xfrm flipV="1">
            <a:off x="4214880" y="4071960"/>
            <a:ext cx="484200" cy="12859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ttangolo 10"/>
          <p:cNvSpPr/>
          <p:nvPr/>
        </p:nvSpPr>
        <p:spPr>
          <a:xfrm>
            <a:off x="1428840" y="5429160"/>
            <a:ext cx="63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Interventi a favore della mobilità in ambito urba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700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e la mobilità è strumento essenziale per lo svolgimento delle attività economiche e sociali, è fondamentale che il diritto alla mobilità individuale sia reso compatibile con le politiche di sviluppo sostenibile, finalizzate all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duzione dell’inquinamento atmosferico e acust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duzione dei consumi energet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icurez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lità dell’ambiente e della vi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468360" y="907920"/>
            <a:ext cx="82296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Le azio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1600200"/>
            <a:ext cx="84358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Realizzazione di infrastrutture che favoriscano l'uso del mezzo pubblico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rsie riservate,  sistemi di preferenziamento semaforico e di gestione delle flotte del Trasporto Pubblico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Realizzazione di sistemi di tariffazione integr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otenziamento e ammodernamento dei veicoli del Trasporto Pubblico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ffusione della figura de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bility Manager 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 attuazione di azioni d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bility Managemen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alizzazione di servizi d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Infomobilità,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sistemi tecnologici di informazione, di comunicazione e di pianificazione del viaggio da parte dell’utenz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alizzazione e/o potenziamento de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ervizi integrativi e complementari al trasporto pubblico local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(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rvizi a chiamata, i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 sharing e il car poolin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omozione dell’intermodalità tra trasporto pubblico e  mobilità ciclo-pedonale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(sviluppo dell’integrazione tra bici e treno, mediante la realizzazione di strutture e infrastrutture nei mezzi e nelle fermate del trasporto pubblico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0" y="9079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Verdana"/>
              </a:rPr>
              <a:t>I cofinanziamenti del MATTM per la mobilità sostenibil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468360" y="1341360"/>
            <a:ext cx="4683240" cy="5472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5292720" y="2852640"/>
            <a:ext cx="352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Risorse erogate a titolo di cofinanziamento:  € 615 ml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292720" y="4292640"/>
            <a:ext cx="37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Soggetti beneficiari: 160 EE.L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329080" y="3573360"/>
            <a:ext cx="378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Valore complessivo interventi cofinanziati: € 970 ml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57" name="Titolo 1"/>
          <p:cNvSpPr/>
          <p:nvPr/>
        </p:nvSpPr>
        <p:spPr>
          <a:xfrm>
            <a:off x="457200" y="1197000"/>
            <a:ext cx="8228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Programma di finanziamenti per il miglioramento della qualità dell’aria nelle aree urbane e per il potenziamento del trasporto pubblico</a:t>
            </a:r>
            <a:br>
              <a:rPr sz="1800"/>
            </a:b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 Legge n. 296 del 27 dicembre 2006 - Finanziaria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Segnaposto contenuto 2"/>
          <p:cNvSpPr/>
          <p:nvPr/>
        </p:nvSpPr>
        <p:spPr>
          <a:xfrm>
            <a:off x="53964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Fondo per la mobilità sostenibi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Finanziamento di 239 ML di euro per il triennio 2007 – 2009 a favore di enti loc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gramma preved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9 tipologi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 interven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ealizzazione di servizi e infrastrutture per il trasporto pubbl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otenziamento e sostituzione flotta con veicoli a basso impatto e potenziamento infomo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azionalizzazione consegna merc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archeggi di interscambio  e intermoda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Diffusione ed utilizzo dei carburanti a basso impatto ambientale e potenziamento reti di distribu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Diffusione  del Mobility manage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Servizi integrativi al TPL (car sharing, taxi collettivo ecc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romozione mobilità ciclis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ealizzazione di interventi specifici per aumentare la sicurezza degli utenti debo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836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Fondo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3" name="CasellaDiTesto 11"/>
          <p:cNvGrpSpPr/>
          <p:nvPr/>
        </p:nvGrpSpPr>
        <p:grpSpPr>
          <a:xfrm>
            <a:off x="684360" y="2492280"/>
            <a:ext cx="7454880" cy="3443400"/>
            <a:chOff x="684360" y="2492280"/>
            <a:chExt cx="7454880" cy="3443400"/>
          </a:xfrm>
        </p:grpSpPr>
        <p:pic>
          <p:nvPicPr>
            <p:cNvPr id="164" name="CasellaDiTesto 11" descr=""/>
            <p:cNvPicPr/>
            <p:nvPr/>
          </p:nvPicPr>
          <p:blipFill>
            <a:blip r:embed="rId4"/>
            <a:stretch/>
          </p:blipFill>
          <p:spPr>
            <a:xfrm>
              <a:off x="684360" y="2492280"/>
              <a:ext cx="7454880" cy="34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00200" y="2509920"/>
              <a:ext cx="7429680" cy="33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Mobilità ciclistica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53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36.013.776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81.064.573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Distribuzione merci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2.433.553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5.970.578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Carburanti a basso impatto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.780.627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3.283.420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Sicurezza utenti deboli della strada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19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9.215.863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32.592.851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Parcheggi di interscambio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28.191.056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72.440.081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Potenziamento  TPL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38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50.177.506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82.217.391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Servizi a favore TPL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49.529.229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21.463.577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Servizi integrativi TPL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6.378.869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9.468.858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Mobility management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.273.033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.961.000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6" name="CasellaDiTesto 46"/>
          <p:cNvGrpSpPr/>
          <p:nvPr/>
        </p:nvGrpSpPr>
        <p:grpSpPr>
          <a:xfrm>
            <a:off x="684360" y="6021360"/>
            <a:ext cx="7454880" cy="401760"/>
            <a:chOff x="684360" y="6021360"/>
            <a:chExt cx="7454880" cy="401760"/>
          </a:xfrm>
        </p:grpSpPr>
        <p:pic>
          <p:nvPicPr>
            <p:cNvPr id="167" name="CasellaDiTesto 46" descr=""/>
            <p:cNvPicPr/>
            <p:nvPr/>
          </p:nvPicPr>
          <p:blipFill>
            <a:blip r:embed="rId5"/>
            <a:stretch/>
          </p:blipFill>
          <p:spPr>
            <a:xfrm>
              <a:off x="684360" y="6021360"/>
              <a:ext cx="7454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00200" y="6039000"/>
              <a:ext cx="742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>
                <a:lnSpc>
                  <a:spcPct val="10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Totale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187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 € 194.993.512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 € 410.462.329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9" name="CasellaDiTesto 12"/>
          <p:cNvGrpSpPr/>
          <p:nvPr/>
        </p:nvGrpSpPr>
        <p:grpSpPr>
          <a:xfrm>
            <a:off x="684360" y="1700280"/>
            <a:ext cx="7454880" cy="676080"/>
            <a:chOff x="684360" y="1700280"/>
            <a:chExt cx="7454880" cy="676080"/>
          </a:xfrm>
        </p:grpSpPr>
        <p:pic>
          <p:nvPicPr>
            <p:cNvPr id="170" name="CasellaDiTesto 12" descr=""/>
            <p:cNvPicPr/>
            <p:nvPr/>
          </p:nvPicPr>
          <p:blipFill>
            <a:blip r:embed="rId6"/>
            <a:stretch/>
          </p:blipFill>
          <p:spPr>
            <a:xfrm>
              <a:off x="684360" y="1700280"/>
              <a:ext cx="74548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00200" y="1715760"/>
              <a:ext cx="742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ctr" pos="3411360"/>
                  <a:tab algn="ctr" pos="484812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Tipologia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Num.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mporto 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Costo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ctr" pos="3411360"/>
                  <a:tab algn="ctr" pos="484812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nterventi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nterventi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cofinanziato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Totale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Pubblicato in G.U.R.I. n. 88 del 16 aprile 2010, ha l’obiettivo di favorire la </a:t>
            </a:r>
            <a:r>
              <a:rPr b="1" lang="it-IT" sz="1600" spc="-1" strike="noStrike">
                <a:solidFill>
                  <a:srgbClr val="ffff66"/>
                </a:solidFill>
                <a:latin typeface="Verdana"/>
              </a:rPr>
              <a:t>realizzazione di progetti di bike sharing associati a sistemi di alimentazione mediante energie rinnovabili ed in particolare pensiline fotovoltaich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Bando “Bike sharing e fonti rinnovabili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4360" y="3284640"/>
            <a:ext cx="806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Risorse stanziat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: € 14 ml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11280" y="5013360"/>
            <a:ext cx="80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on decreto direttoriale del 8 febbraio 2011 sono stati ammessi a cofinanziamento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57 progetti di altrettanti soggetti beneficiari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, di cui 11 relativi alle aree naturali protet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684360" y="3860640"/>
            <a:ext cx="806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Soggetti beneficiari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: Comuni, Province, Consorzi di Comuni, Enti gestori dei Parchi nazionali e regiona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Tavolo tecnico per la mobilità sostenibile </a:t>
            </a:r>
            <a:r>
              <a:rPr b="1" lang="it-IT" sz="1400" spc="-1" strike="noStrike">
                <a:solidFill>
                  <a:srgbClr val="ffff00"/>
                </a:solidFill>
                <a:latin typeface="Verdana"/>
              </a:rPr>
              <a:t>(30 settembre 2010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Linee di indirizzo per una strategia della mobilità sostenibi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84360" y="206064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800" y="13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ttangolo 17"/>
          <p:cNvSpPr/>
          <p:nvPr/>
        </p:nvSpPr>
        <p:spPr>
          <a:xfrm>
            <a:off x="684360" y="2421000"/>
            <a:ext cx="74898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ridurre le emissioni e l’inquinamento da traffico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nelle aree urbane e negli attraversamenti delle aree metropolita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ridurre i consumi energetici e le emissioni di CO2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al settore del trasporto, che oggi raggiungono circa il 30% del tot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luidificare”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e rendere veloce il trasporto delle persone e delle merci, componente chiave della crescita delle economie post industriali,  e ridurre contestualmente i costi della “congestione” del traffic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La mobilità sostenibile è un caso esemplare di “win-win strategy”, in quanto associa i benefici economici a quelli ambientali, lo stimolo alla crescita con il miglioramento della qualità della vit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ttangolo 18"/>
          <p:cNvSpPr/>
          <p:nvPr/>
        </p:nvSpPr>
        <p:spPr>
          <a:xfrm>
            <a:off x="971640" y="184464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obiettivi contestuali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Proposta di Linee di indirizzo per una strategia della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684360" y="206064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800" y="13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ttangolo 17"/>
          <p:cNvSpPr/>
          <p:nvPr/>
        </p:nvSpPr>
        <p:spPr>
          <a:xfrm>
            <a:off x="900000" y="220500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l’inquinamento atmosferico da traffico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è ancora una priorità per l’Italia nonostante le direttive europee e le innovazioni tecnologiche.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La  qualità dell’ambiente nelle aree urbane è limitata da due fattori principali: numero elevato di autovetture per abitante  n. 598 /1000 abitanti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Vetustà del parco circolante (il 40% del parco supera i 10 anni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ttangolo 19"/>
          <p:cNvSpPr/>
          <p:nvPr/>
        </p:nvSpPr>
        <p:spPr>
          <a:xfrm>
            <a:off x="900000" y="3860640"/>
            <a:ext cx="748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le emissioni di CO2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del settore dei trasporti nel 2010 sono stimate in 132 milioni di  tonnellate pari al 25 % delle emissioni totali. Il trasporto su gomma è prevalente su quello su ferrovia e nave (50% di emissioni del trasporto su strada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Verdana"/>
                <a:ea typeface="Times New Roman"/>
              </a:rPr>
              <a:t>la congestione da traffico</a:t>
            </a:r>
            <a:r>
              <a:rPr b="0" lang="it-IT" sz="1600" spc="-1" strike="noStrike">
                <a:solidFill>
                  <a:srgbClr val="ffff66"/>
                </a:solidFill>
                <a:latin typeface="Verdana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 causa dei ritardi per gli automobilisti e consegna delle merci, costa oltre 40 ML di € l’anno. Costi estern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moneRCR</cp:lastModifiedBy>
  <dcterms:modified xsi:type="dcterms:W3CDTF">2011-03-21T16:32:57Z</dcterms:modified>
  <cp:revision>157</cp:revision>
  <dc:subject/>
  <dc:title>PowerPoint Presentation</dc:title>
</cp:coreProperties>
</file>